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31E2-3947-41D8-907A-C5851BE751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5468B1-9238-4258-8C06-3B7ED1000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ADF-A833-4319-87FD-CAA8FECF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B7C-A428-4B7B-AEC1-6BF98AE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D57-B8FA-4212-B327-E01C4CFB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D39-74AF-45AB-9977-3CFAFF8D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6FD-0AFD-4456-805E-26CA751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57F-64E8-4D86-B2CA-4BF4CF5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34C-15C3-4785-B8BB-77835925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FA8-BF37-4AB7-879E-388ABE0C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16A-2F4E-4048-8110-B23D6E88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E22-F68C-49D0-B50E-F10B1BA0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E3C-4D78-4441-90ED-96879796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BB4-5B08-4472-997D-BF15BFA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295-28EE-49D0-86AA-F1BDE24D28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B7FF-DD28-4EA2-A231-B2EDABAD1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459240" y="465120"/>
            <a:ext cx="8186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바탕"/>
              </a:rPr>
              <a:t>Особенности формирования отчетности о ходе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943360" y="4822920"/>
            <a:ext cx="45385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6436b"/>
                </a:solidFill>
                <a:latin typeface="Cambria"/>
              </a:rPr>
              <a:t>Зайцев Павел Борис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6436b"/>
                </a:solidFill>
                <a:latin typeface="Cambria"/>
              </a:rPr>
              <a:t>Началь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6436b"/>
                </a:solidFill>
                <a:latin typeface="Cambria"/>
              </a:rPr>
              <a:t>Отдела отчетности об исполнении бюджетов Управления бюджетного учета и отчетности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3A3-1EFF-4894-A5DB-C56C97FBD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16120" y="801720"/>
          <a:ext cx="10047240" cy="2930400"/>
        </p:xfrm>
        <a:graphic>
          <a:graphicData uri="http://schemas.openxmlformats.org/drawingml/2006/table">
            <a:tbl>
              <a:tblPr/>
              <a:tblGrid>
                <a:gridCol w="3568680"/>
                <a:gridCol w="555480"/>
                <a:gridCol w="371520"/>
                <a:gridCol w="338400"/>
                <a:gridCol w="858600"/>
                <a:gridCol w="324000"/>
                <a:gridCol w="1244520"/>
                <a:gridCol w="1393920"/>
                <a:gridCol w="1392120"/>
              </a:tblGrid>
              <a:tr h="1666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ХОДЫ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схода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бюджетной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ные   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олненные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бюджета –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9 006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86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 закупки товаров, работ и услуг для обеспечения государственных (муниципальных) нуж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8 247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юридическим лицам (кроме некоммерческих организаций), индивидуальным предпринимателям, физическим лицам - производителям товаров, работ,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9120" y="4102200"/>
          <a:ext cx="10515600" cy="2541600"/>
        </p:xfrm>
        <a:graphic>
          <a:graphicData uri="http://schemas.openxmlformats.org/drawingml/2006/table">
            <a:tbl>
              <a:tblPr/>
              <a:tblGrid>
                <a:gridCol w="1533600"/>
                <a:gridCol w="214200"/>
                <a:gridCol w="206280"/>
                <a:gridCol w="250920"/>
                <a:gridCol w="571680"/>
                <a:gridCol w="312480"/>
                <a:gridCol w="825480"/>
                <a:gridCol w="825480"/>
                <a:gridCol w="825480"/>
                <a:gridCol w="824040"/>
                <a:gridCol w="825480"/>
                <a:gridCol w="825480"/>
                <a:gridCol w="825480"/>
                <a:gridCol w="824040"/>
                <a:gridCol w="825480"/>
              </a:tblGrid>
              <a:tr h="10476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бюджетной классифик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(доведено)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нен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х ассигнова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ов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м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е бюджет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с применением конкурентных способ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Бюджетные обязательства текущего (отчетного) финансового года по расходам,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29 932,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12 609,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10 097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 774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8172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172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93 768,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6 445,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4 081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 758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7"/>
          <p:cNvSpPr/>
          <p:nvPr/>
        </p:nvSpPr>
        <p:spPr>
          <a:xfrm>
            <a:off x="5500800" y="333360"/>
            <a:ext cx="36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Прямая со стрелкой 10"/>
          <p:cNvCxnSpPr/>
          <p:nvPr/>
        </p:nvCxnSpPr>
        <p:spPr>
          <a:xfrm flipH="1">
            <a:off x="3526920" y="2277720"/>
            <a:ext cx="3926880" cy="300276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Прямая со стрелкой 12"/>
          <p:cNvCxnSpPr/>
          <p:nvPr/>
        </p:nvCxnSpPr>
        <p:spPr>
          <a:xfrm flipH="1">
            <a:off x="3537720" y="3085920"/>
            <a:ext cx="3925080" cy="336780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sp>
        <p:nvSpPr>
          <p:cNvPr id="116" name="TextBox 9"/>
          <p:cNvSpPr/>
          <p:nvPr/>
        </p:nvSpPr>
        <p:spPr>
          <a:xfrm>
            <a:off x="4351320" y="3732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8B8-7B02-407E-A7AA-3A0FB4CE0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8320" y="689040"/>
          <a:ext cx="10047600" cy="2930400"/>
        </p:xfrm>
        <a:graphic>
          <a:graphicData uri="http://schemas.openxmlformats.org/drawingml/2006/table">
            <a:tbl>
              <a:tblPr/>
              <a:tblGrid>
                <a:gridCol w="3568680"/>
                <a:gridCol w="555840"/>
                <a:gridCol w="371520"/>
                <a:gridCol w="338040"/>
                <a:gridCol w="858960"/>
                <a:gridCol w="323640"/>
                <a:gridCol w="1244880"/>
                <a:gridCol w="1393560"/>
                <a:gridCol w="1392480"/>
              </a:tblGrid>
              <a:tr h="166680">
                <a:tc gridSpan="9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ХОДЫ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схода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бюджетной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ные   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исполненные 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бюджета –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9 006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2286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286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е закупки товаров, работ и услуг для обеспечения государственных (муниципальных) нуж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 689 687,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78 247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юридическим лицам (кроме некоммерческих организаций), индивидуальным предпринимателям, физическим лицам - производителям товаров, работ,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208 39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7"/>
          <p:cNvSpPr/>
          <p:nvPr/>
        </p:nvSpPr>
        <p:spPr>
          <a:xfrm>
            <a:off x="5560920" y="17784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8640" y="3878280"/>
          <a:ext cx="10515600" cy="2979720"/>
        </p:xfrm>
        <a:graphic>
          <a:graphicData uri="http://schemas.openxmlformats.org/drawingml/2006/table">
            <a:tbl>
              <a:tblPr/>
              <a:tblGrid>
                <a:gridCol w="1901880"/>
                <a:gridCol w="206640"/>
                <a:gridCol w="196560"/>
                <a:gridCol w="239760"/>
                <a:gridCol w="549360"/>
                <a:gridCol w="299880"/>
                <a:gridCol w="792360"/>
                <a:gridCol w="790560"/>
                <a:gridCol w="790560"/>
                <a:gridCol w="792000"/>
                <a:gridCol w="790560"/>
                <a:gridCol w="792360"/>
                <a:gridCol w="790560"/>
                <a:gridCol w="792000"/>
                <a:gridCol w="790560"/>
              </a:tblGrid>
              <a:tr h="100080"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бюджетной классифик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(доведено)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нен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х ассигнова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ов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м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е бюджет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обязатель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бюджет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денежных обязатель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с применением конкурентных способ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Бюджетные обязательства текущего (отчетного) финансового года по расходам,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298 84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329 932,5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12 609,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19 835,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10 097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 774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78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8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ая закупка товаров, работ и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58 18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93 768,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4 828,9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6 445,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89 687,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4 081,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 758,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пенд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7 768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21 752,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возмещение недополученных доходов и (или) возмещение фактически понесенных затрат в связи с производством (реализацией) товаров, выполнением работ, оказанием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5P3529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0 662,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08 395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1" name="Прямая со стрелкой 10"/>
          <p:cNvCxnSpPr/>
          <p:nvPr/>
        </p:nvCxnSpPr>
        <p:spPr>
          <a:xfrm flipH="1">
            <a:off x="3742920" y="2112840"/>
            <a:ext cx="3796560" cy="293472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2" name="Прямая со стрелкой 12"/>
          <p:cNvCxnSpPr/>
          <p:nvPr/>
        </p:nvCxnSpPr>
        <p:spPr>
          <a:xfrm flipH="1">
            <a:off x="3742920" y="2820600"/>
            <a:ext cx="3796560" cy="3080520"/>
          </a:xfrm>
          <a:prstGeom prst="straightConnector1">
            <a:avLst/>
          </a:prstGeom>
          <a:ln w="25560">
            <a:solidFill>
              <a:srgbClr val="2bb3fc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TextBox 9"/>
          <p:cNvSpPr/>
          <p:nvPr/>
        </p:nvSpPr>
        <p:spPr>
          <a:xfrm>
            <a:off x="4989600" y="355284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 (ОКТМО ХХ000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812880" y="1774800"/>
            <a:ext cx="10080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имость показателей между отчетными фор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7340760" y="2854440"/>
            <a:ext cx="35528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5 Отч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. 0503128-Н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ВР 461, 462, 464, 465, 612, 6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6"/>
          <p:cNvSpPr/>
          <p:nvPr/>
        </p:nvSpPr>
        <p:spPr>
          <a:xfrm>
            <a:off x="812880" y="2854440"/>
            <a:ext cx="355284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а 4 Отч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. 0503738-Н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овина рамки 2"/>
          <p:cNvSpPr/>
          <p:nvPr/>
        </p:nvSpPr>
        <p:spPr>
          <a:xfrm rot="18990600">
            <a:off x="5122440" y="3281040"/>
            <a:ext cx="531720" cy="534960"/>
          </a:xfrm>
          <a:custGeom>
            <a:avLst/>
            <a:gdLst/>
            <a:ahLst/>
            <a:rect l="l" t="t" r="r" b="b"/>
            <a:pathLst>
              <a:path w="531812" h="534987">
                <a:moveTo>
                  <a:pt x="0" y="0"/>
                </a:moveTo>
                <a:lnTo>
                  <a:pt x="531812" y="0"/>
                </a:lnTo>
                <a:lnTo>
                  <a:pt x="355595" y="177269"/>
                </a:lnTo>
                <a:lnTo>
                  <a:pt x="177269" y="177269"/>
                </a:lnTo>
                <a:lnTo>
                  <a:pt x="177269" y="356660"/>
                </a:lnTo>
                <a:lnTo>
                  <a:pt x="0" y="534987"/>
                </a:lnTo>
                <a:lnTo>
                  <a:pt x="0" y="0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Равно 3"/>
          <p:cNvSpPr/>
          <p:nvPr/>
        </p:nvSpPr>
        <p:spPr>
          <a:xfrm>
            <a:off x="5388120" y="3267000"/>
            <a:ext cx="846000" cy="565200"/>
          </a:xfrm>
          <a:custGeom>
            <a:avLst/>
            <a:gdLst/>
            <a:ahLst/>
            <a:rect l="l" t="t" r="r" b="b"/>
            <a:pathLst>
              <a:path w="846138" h="565150">
                <a:moveTo>
                  <a:pt x="112156" y="116421"/>
                </a:moveTo>
                <a:lnTo>
                  <a:pt x="733982" y="116421"/>
                </a:lnTo>
                <a:lnTo>
                  <a:pt x="733982" y="249344"/>
                </a:lnTo>
                <a:lnTo>
                  <a:pt x="112156" y="249344"/>
                </a:lnTo>
                <a:lnTo>
                  <a:pt x="112156" y="116421"/>
                </a:lnTo>
                <a:close/>
                <a:moveTo>
                  <a:pt x="112156" y="315806"/>
                </a:moveTo>
                <a:lnTo>
                  <a:pt x="733982" y="315806"/>
                </a:lnTo>
                <a:lnTo>
                  <a:pt x="733982" y="448729"/>
                </a:lnTo>
                <a:lnTo>
                  <a:pt x="112156" y="448729"/>
                </a:lnTo>
                <a:lnTo>
                  <a:pt x="112156" y="315806"/>
                </a:lnTo>
                <a:close/>
              </a:path>
            </a:pathLst>
          </a:custGeom>
          <a:solidFill>
            <a:srgbClr val="31b6fd"/>
          </a:solidFill>
          <a:ln w="2844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812880" y="4876920"/>
            <a:ext cx="10080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КБК в формате ХХХХ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YYYYY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ХХ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ECC3-0CD5-43FE-89A8-656DF1487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5"/>
          <p:cNvSpPr/>
          <p:nvPr/>
        </p:nvSpPr>
        <p:spPr>
          <a:xfrm>
            <a:off x="4562640" y="1828800"/>
            <a:ext cx="2639880" cy="3537000"/>
          </a:xfrm>
          <a:custGeom>
            <a:avLst/>
            <a:gdLst>
              <a:gd name="textAreaLeft" fmla="*/ 128880 w 2639880"/>
              <a:gd name="textAreaRight" fmla="*/ 2511000 w 2639880"/>
              <a:gd name="textAreaTop" fmla="*/ 128880 h 3537000"/>
              <a:gd name="textAreaBottom" fmla="*/ 3408120 h 3537000"/>
            </a:gdLst>
            <a:ahLst/>
            <a:rect l="textAreaLeft" t="textAreaTop" r="textAreaRight" b="textAreaBottom"/>
            <a:pathLst>
              <a:path w="21600" h="28939">
                <a:moveTo>
                  <a:pt x="3600" y="0"/>
                </a:moveTo>
                <a:arcTo wR="3600" hR="3600" stAng="16200000" swAng="-5400000"/>
                <a:lnTo>
                  <a:pt x="0" y="25339"/>
                </a:lnTo>
                <a:arcTo wR="3600" hR="3600" stAng="10800000" swAng="-5400000"/>
                <a:lnTo>
                  <a:pt x="18000" y="28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ность по национальным проек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6"/>
          <p:cNvSpPr/>
          <p:nvPr/>
        </p:nvSpPr>
        <p:spPr>
          <a:xfrm>
            <a:off x="347760" y="1828800"/>
            <a:ext cx="2084400" cy="3537000"/>
          </a:xfrm>
          <a:custGeom>
            <a:avLst/>
            <a:gdLst>
              <a:gd name="textAreaLeft" fmla="*/ 101520 w 2084400"/>
              <a:gd name="textAreaRight" fmla="*/ 1982880 w 2084400"/>
              <a:gd name="textAreaTop" fmla="*/ 101520 h 3537000"/>
              <a:gd name="textAreaBottom" fmla="*/ 3435480 h 3537000"/>
            </a:gdLst>
            <a:ahLst/>
            <a:rect l="textAreaLeft" t="textAreaTop" r="textAreaRight" b="textAreaBottom"/>
            <a:pathLst>
              <a:path w="21600" h="36650">
                <a:moveTo>
                  <a:pt x="3600" y="0"/>
                </a:moveTo>
                <a:arcTo wR="3600" hR="3600" stAng="16200000" swAng="-5400000"/>
                <a:lnTo>
                  <a:pt x="0" y="33050"/>
                </a:lnTo>
                <a:arcTo wR="3600" hR="3600" stAng="10800000" swAng="-5400000"/>
                <a:lnTo>
                  <a:pt x="18000" y="366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9d98c"/>
          </a:solidFill>
          <a:ln w="2556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, ГВБФ, ГРБС Ф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9333000" y="1828800"/>
            <a:ext cx="2152440" cy="3537000"/>
          </a:xfrm>
          <a:custGeom>
            <a:avLst/>
            <a:gdLst>
              <a:gd name="textAreaLeft" fmla="*/ 104760 w 2152440"/>
              <a:gd name="textAreaRight" fmla="*/ 2047680 w 2152440"/>
              <a:gd name="textAreaTop" fmla="*/ 104760 h 3537000"/>
              <a:gd name="textAreaBottom" fmla="*/ 3432240 h 3537000"/>
            </a:gdLst>
            <a:ahLst/>
            <a:rect l="textAreaLeft" t="textAreaTop" r="textAreaRight" b="textAreaBottom"/>
            <a:pathLst>
              <a:path w="21600" h="35492">
                <a:moveTo>
                  <a:pt x="3600" y="0"/>
                </a:moveTo>
                <a:arcTo wR="3600" hR="3600" stAng="16200000" swAng="-5400000"/>
                <a:lnTo>
                  <a:pt x="0" y="31892"/>
                </a:lnTo>
                <a:arcTo wR="3600" hR="3600" stAng="10800000" swAng="-5400000"/>
                <a:lnTo>
                  <a:pt x="18000" y="354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e3ae"/>
          </a:solidFill>
          <a:ln w="2556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Ф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трелка вправо 1"/>
          <p:cNvSpPr/>
          <p:nvPr/>
        </p:nvSpPr>
        <p:spPr>
          <a:xfrm>
            <a:off x="2432160" y="3355920"/>
            <a:ext cx="2130480" cy="7333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9d98c"/>
          </a:solidFill>
          <a:ln w="28440">
            <a:solidFill>
              <a:srgbClr val="1b4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трелка влево 8"/>
          <p:cNvSpPr/>
          <p:nvPr/>
        </p:nvSpPr>
        <p:spPr>
          <a:xfrm>
            <a:off x="7202520" y="3355920"/>
            <a:ext cx="2130480" cy="7333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9de3ae"/>
          </a:solidFill>
          <a:ln w="28440">
            <a:solidFill>
              <a:srgbClr val="1b4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0"/>
          <p:cNvSpPr/>
          <p:nvPr/>
        </p:nvSpPr>
        <p:spPr>
          <a:xfrm>
            <a:off x="7392960" y="1828800"/>
            <a:ext cx="1785960" cy="134604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2 рабочих дня (ф. 0503117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4 рабочих д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(ф. 0503128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2587680" y="2190600"/>
            <a:ext cx="1755720" cy="98424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ca7"/>
                </a:solidFill>
                <a:latin typeface="Calibri"/>
              </a:rPr>
              <a:t>Установленные с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5B76-3C1A-43C3-B708-3EDA4B868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8F7A-8165-4248-91EB-71A07860C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71"/>
          <p:cNvSpPr/>
          <p:nvPr/>
        </p:nvSpPr>
        <p:spPr>
          <a:xfrm>
            <a:off x="2286000" y="1100160"/>
            <a:ext cx="70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роки представления за 2019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87280" y="5184720"/>
            <a:ext cx="240696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73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1187280" y="2908440"/>
            <a:ext cx="240696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1187280" y="4043520"/>
            <a:ext cx="240696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4307040" y="2908440"/>
            <a:ext cx="252540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-й рабочий день месяца, следующего за отчетным (15.01.20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4307040" y="4043520"/>
            <a:ext cx="252540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.01.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4307040" y="5184720"/>
            <a:ext cx="252540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7.02.202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4.02.202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ФО, ГВБ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7383600" y="2908440"/>
            <a:ext cx="418464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 (за декабр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1"/>
          <p:cNvSpPr/>
          <p:nvPr/>
        </p:nvSpPr>
        <p:spPr>
          <a:xfrm>
            <a:off x="7383600" y="4043520"/>
            <a:ext cx="418464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годов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годо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7383600" y="5184720"/>
            <a:ext cx="418464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годов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годо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187280" y="2122560"/>
            <a:ext cx="24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4307040" y="212256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7383600" y="21225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лект отчетности в ПУиО Э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7"/>
          <p:cNvSpPr/>
          <p:nvPr/>
        </p:nvSpPr>
        <p:spPr>
          <a:xfrm>
            <a:off x="1035000" y="2700360"/>
            <a:ext cx="106887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5569-27C6-42AB-B2C5-94EDB4BF0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71"/>
          <p:cNvSpPr/>
          <p:nvPr/>
        </p:nvSpPr>
        <p:spPr>
          <a:xfrm>
            <a:off x="2286000" y="1100160"/>
            <a:ext cx="70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роки представления в 2020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1187280" y="5184720"/>
            <a:ext cx="240696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73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187280" y="2305080"/>
            <a:ext cx="240696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17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1187280" y="3338640"/>
            <a:ext cx="2406960" cy="164772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050312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307040" y="2305080"/>
            <a:ext cx="240660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-й рабочий день месяца, следующего за отчет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307040" y="3338640"/>
            <a:ext cx="2406600" cy="164772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8 число месяца, следующего за отчетным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ФО, ГВБ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ок месячной, квартальной отчетност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ГРБС Ф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4307040" y="5184720"/>
            <a:ext cx="240660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8 число месяца, следующего за отчет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7383600" y="2305080"/>
            <a:ext cx="4184640" cy="8697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, кварта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7383600" y="3338640"/>
            <a:ext cx="4184640" cy="164772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, кварт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месячный, кварта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7383600" y="5184720"/>
            <a:ext cx="4184640" cy="87156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 – ФО (НП) месячный (за декабрь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ВБФ – месячный, кварт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БС ФБ – месячный, кварта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1187280" y="1736640"/>
            <a:ext cx="24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4307040" y="173664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7364520" y="173664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плект отчетности в ПУиО Э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17"/>
          <p:cNvSpPr/>
          <p:nvPr/>
        </p:nvSpPr>
        <p:spPr>
          <a:xfrm>
            <a:off x="1035000" y="2104920"/>
            <a:ext cx="106887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3"/>
          <p:cNvSpPr/>
          <p:nvPr/>
        </p:nvSpPr>
        <p:spPr>
          <a:xfrm>
            <a:off x="4307040" y="4162320"/>
            <a:ext cx="2406600" cy="0"/>
          </a:xfrm>
          <a:prstGeom prst="line">
            <a:avLst/>
          </a:prstGeom>
          <a:ln w="25560">
            <a:solidFill>
              <a:srgbClr val="8fb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4"/>
          <p:cNvSpPr/>
          <p:nvPr/>
        </p:nvSpPr>
        <p:spPr>
          <a:xfrm>
            <a:off x="3738600" y="278748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FDA-D1DF-4CA0-B337-07B3B3288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8575560" y="62960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8412-665A-4E9C-BF4A-08733190C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343400" y="255600"/>
            <a:ext cx="72057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408560" y="1900080"/>
            <a:ext cx="3373200" cy="382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о бюджетных обязательствах (ф. 0503128) в части обязательств по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 в ходе исполнения соответствующих бюдже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чет (ф. 0503128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8055000" y="1900080"/>
            <a:ext cx="3373560" cy="382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об обязательствах учреждения, содержащий данные о принятии и исполнении учреждением обязательств в ходе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чет (ф. 0503738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906560" y="5900760"/>
            <a:ext cx="84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ериодичность представления - ежемесяч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665280" y="1900080"/>
            <a:ext cx="3373200" cy="3827520"/>
          </a:xfrm>
          <a:prstGeom prst="rect">
            <a:avLst/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ет об исполнении бюджета (ф. 0503117), содержащий данные по исполнению бюджета в ходе реализации национальных проектов (программ), комплексного плана модернизации и расширения магистральной инфраструктуры (региональных проектов в составе национальных проек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тчет (ф. 0503117-Н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157400" y="138744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О, ГВБ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4900680" y="138744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О, ГВБФ,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8547120" y="1063800"/>
            <a:ext cx="23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АУ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О, ГВБФ, ГРБС Ф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37FB-33E2-4F4A-BDB2-BBFE9B58A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450720" y="1593720"/>
            <a:ext cx="1140156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твертый разряд кода целевой статьи (00 0 X0 00000), отражающий расходы на национальный проект (программу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лексный план, соответствует буквенному значени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 - национальный проект "Культура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 - национальная программа "Цифровая экономика Российской Федерации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 - национальный проект "Образование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 - национальный проект "Жилье и городская среда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 - национальный проект "Экология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 - национальный проект "Малое и среднее предпринимательство и поддержка индивидуальной предприним инициативы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 - национальный проект "Производительность труда и поддержка занятости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 - национальный проект "Здравоохранение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 - национальный проект "Демография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 - национальный проект "Безопасные и качественные автомобильные дороги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 - национальный проект "Наука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 - национальный проект "Международная кооперация и экспорт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V - Комплексный план модернизации и расширения магистральной инфраструк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725480" y="1069920"/>
            <a:ext cx="962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иложение № 11 к Приказу Минфина России от 08.08.2018 № 132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540" t="0" r="0" b="0"/>
          <a:stretch/>
        </p:blipFill>
        <p:spPr>
          <a:xfrm>
            <a:off x="112680" y="755640"/>
            <a:ext cx="11068200" cy="6045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424160" y="6059520"/>
            <a:ext cx="10559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ел 3 </a:t>
            </a:r>
            <a:r>
              <a:rPr b="1" i="1" lang="mr-IN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олько по показателям нацпроек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ка 900 «Источники финансирования» не заполняе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581280" y="1839960"/>
            <a:ext cx="5132520" cy="801720"/>
          </a:xfrm>
          <a:prstGeom prst="wedgeRoundRectCallout">
            <a:avLst>
              <a:gd name="adj1" fmla="val -64597"/>
              <a:gd name="adj2" fmla="val 63601"/>
              <a:gd name="adj3" fmla="val 16667"/>
            </a:avLst>
          </a:prstGeom>
          <a:solidFill>
            <a:srgbClr val="fffcc1"/>
          </a:solidFill>
          <a:ln w="22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вка по финансовым периодам (год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581280" y="2787480"/>
            <a:ext cx="5132520" cy="463680"/>
          </a:xfrm>
          <a:prstGeom prst="wedgeRoundRectCallout">
            <a:avLst>
              <a:gd name="adj1" fmla="val -62837"/>
              <a:gd name="adj2" fmla="val 7027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1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3581280" y="3352680"/>
            <a:ext cx="5132520" cy="405000"/>
          </a:xfrm>
          <a:prstGeom prst="wedgeRoundRectCallout">
            <a:avLst>
              <a:gd name="adj1" fmla="val -61680"/>
              <a:gd name="adj2" fmla="val 14055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2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581280" y="3848040"/>
            <a:ext cx="5132520" cy="405000"/>
          </a:xfrm>
          <a:prstGeom prst="wedgeRoundRectCallout">
            <a:avLst>
              <a:gd name="adj1" fmla="val -61583"/>
              <a:gd name="adj2" fmla="val 14055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3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581280" y="4432320"/>
            <a:ext cx="5132520" cy="404640"/>
          </a:xfrm>
          <a:prstGeom prst="wedgeRoundRectCallout">
            <a:avLst>
              <a:gd name="adj1" fmla="val -59800"/>
              <a:gd name="adj2" fmla="val 39212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4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3581280" y="5510160"/>
            <a:ext cx="5132520" cy="405000"/>
          </a:xfrm>
          <a:prstGeom prst="wedgeRoundRectCallout">
            <a:avLst>
              <a:gd name="adj1" fmla="val -60925"/>
              <a:gd name="adj2" fmla="val 1509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6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2.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8872560" y="2787480"/>
            <a:ext cx="3216240" cy="46368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8872560" y="3314880"/>
            <a:ext cx="3216240" cy="4633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8871120" y="3848040"/>
            <a:ext cx="3214440" cy="4651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8871120" y="4397400"/>
            <a:ext cx="3214440" cy="4651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8871120" y="4937040"/>
            <a:ext cx="3214440" cy="46512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3581280" y="4983120"/>
            <a:ext cx="5132520" cy="405000"/>
          </a:xfrm>
          <a:prstGeom prst="wedgeRoundRectCallout">
            <a:avLst>
              <a:gd name="adj1" fmla="val -59555"/>
              <a:gd name="adj2" fmla="val 6949"/>
              <a:gd name="adj3" fmla="val 16667"/>
            </a:avLst>
          </a:prstGeom>
          <a:solidFill>
            <a:srgbClr val="b3e4c5"/>
          </a:solidFill>
          <a:ln w="22320">
            <a:solidFill>
              <a:srgbClr val="936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850 </a:t>
            </a:r>
            <a:r>
              <a:rPr b="1" lang="mr-I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ет 502.90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502.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8871120" y="5487840"/>
            <a:ext cx="3214440" cy="463680"/>
          </a:xfrm>
          <a:prstGeom prst="roundRect">
            <a:avLst>
              <a:gd name="adj" fmla="val 16667"/>
            </a:avLst>
          </a:prstGeom>
          <a:solidFill>
            <a:srgbClr val="e4c6d9"/>
          </a:solidFill>
          <a:ln w="22320">
            <a:solidFill>
              <a:srgbClr val="037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етализация по КБ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4"/>
          <p:cNvSpPr/>
          <p:nvPr/>
        </p:nvSpPr>
        <p:spPr>
          <a:xfrm>
            <a:off x="7485120" y="322200"/>
            <a:ext cx="38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Arial"/>
              </a:rPr>
              <a:t>Отчет ф.0503128-Н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7848-6FA0-40AE-9300-3395CC916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198360" y="4667400"/>
            <a:ext cx="11490480" cy="957240"/>
          </a:xfrm>
          <a:prstGeom prst="rect">
            <a:avLst/>
          </a:prstGeom>
          <a:noFill/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46000" y="1060560"/>
          <a:ext cx="10299960" cy="5732280"/>
        </p:xfrm>
        <a:graphic>
          <a:graphicData uri="http://schemas.openxmlformats.org/drawingml/2006/table">
            <a:tbl>
              <a:tblPr/>
              <a:tblGrid>
                <a:gridCol w="2013120"/>
                <a:gridCol w="189000"/>
                <a:gridCol w="263520"/>
                <a:gridCol w="255600"/>
                <a:gridCol w="625320"/>
                <a:gridCol w="255600"/>
                <a:gridCol w="539640"/>
                <a:gridCol w="768600"/>
                <a:gridCol w="769680"/>
                <a:gridCol w="770040"/>
                <a:gridCol w="770040"/>
                <a:gridCol w="770040"/>
                <a:gridCol w="769680"/>
                <a:gridCol w="770040"/>
                <a:gridCol w="770040"/>
              </a:tblGrid>
              <a:tr h="174600">
                <a:tc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бюджетной классифика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о (доведено)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ств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денеж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сполнен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х ассигнова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итов бюджет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имаемые обязательс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е бюджетные обязательств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обязательств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бюджет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ых денежных обязательст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с применением конкурентных способ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"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язательства финансовых годов, следующих за текущим (отчетным) финансовым годом, 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20 512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961 584,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37 713 056,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4 492 964,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437 903 817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5760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расхода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6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20 512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961 584,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37 713 056,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4 492 964,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437 903 817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347 779 5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 445 909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84 602 629,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редного финансового года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07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инвестиции в объекты капитального строительства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24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894497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445909,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84 602 629,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6 446 898,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ии на софинансирование капитальных вложений в объекты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538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83298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го года, следующего за очередны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600 836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 515 674,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133 813 495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 890 334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34 004 256,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инвестиции в объекты капитального строительства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24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600 836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 515 674,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34 004 256,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89 890 334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34 004 256,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го года, следующего за очередны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71 896 5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</a:tr>
              <a:tr h="27936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ecc9"/>
                    </a:solidFill>
                  </a:tcPr>
                </a:tc>
              </a:tr>
              <a:tr h="3870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ые инвестиции в объекты капитального строительства государственной (муниципальной) собствен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V724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71 896 5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67 452 662,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ecc9"/>
                    </a:solidFill>
                  </a:tcPr>
                </a:tc>
              </a:tr>
              <a:tr h="141120">
                <a:tc>
                  <a:txBody>
                    <a:bodyPr lIns="1152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иные очередные года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1520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160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ным обязательства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">
                <a:tc>
                  <a:txBody>
                    <a:bodyPr lIns="2300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300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1724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тложенным обязательствам,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72440" marR="4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23004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23004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5760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выплатам источников финансирования дефицита бюдже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760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20 512 10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 961 584,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537 713 056,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474 492 964,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437 903 817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Прямоугольная выноска 11"/>
          <p:cNvSpPr/>
          <p:nvPr/>
        </p:nvSpPr>
        <p:spPr>
          <a:xfrm>
            <a:off x="3174840" y="2401920"/>
            <a:ext cx="4434120" cy="2000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be6b3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лняется с учетом планового периода на 2022 год в случае принятия закона, доведения бюджетных ассигнований, ЛБ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963720" y="1555920"/>
            <a:ext cx="9897840" cy="41814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ая выноска 1"/>
          <p:cNvSpPr/>
          <p:nvPr/>
        </p:nvSpPr>
        <p:spPr>
          <a:xfrm>
            <a:off x="5913360" y="2173320"/>
            <a:ext cx="2778120" cy="2660760"/>
          </a:xfrm>
          <a:prstGeom prst="wedgeRectCallout">
            <a:avLst>
              <a:gd name="adj1" fmla="val -58439"/>
              <a:gd name="adj2" fmla="val -51337"/>
            </a:avLst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чиная с отчетности за 2019 год и далее – ежемесяч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ая выноска 4"/>
          <p:cNvSpPr/>
          <p:nvPr/>
        </p:nvSpPr>
        <p:spPr>
          <a:xfrm>
            <a:off x="2217600" y="2741760"/>
            <a:ext cx="2778120" cy="2658960"/>
          </a:xfrm>
          <a:prstGeom prst="wedgeRectCallout">
            <a:avLst>
              <a:gd name="adj1" fmla="val 27884"/>
              <a:gd name="adj2" fmla="val -72319"/>
            </a:avLst>
          </a:prstGeom>
          <a:solidFill>
            <a:srgbClr val="ffffff"/>
          </a:solidFill>
          <a:ln w="2844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только по видам деятельности 5 и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3202-1F4D-41EE-B80D-370FBC35F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rcRect l="4836" t="23398" r="48276" b="34015"/>
          <a:stretch/>
        </p:blipFill>
        <p:spPr>
          <a:xfrm>
            <a:off x="184320" y="1136520"/>
            <a:ext cx="11715480" cy="47372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5"/>
          <p:cNvSpPr/>
          <p:nvPr/>
        </p:nvSpPr>
        <p:spPr>
          <a:xfrm>
            <a:off x="3716280" y="939960"/>
            <a:ext cx="1752480" cy="1747800"/>
          </a:xfrm>
          <a:prstGeom prst="ellipse">
            <a:avLst/>
          </a:prstGeom>
          <a:noFill/>
          <a:ln w="50760">
            <a:solidFill>
              <a:srgbClr val="002060"/>
            </a:solidFill>
            <a:miter/>
          </a:ln>
          <a:effectLst>
            <a:outerShdw dist="2304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653080" y="2687760"/>
            <a:ext cx="4303800" cy="2589120"/>
          </a:xfrm>
          <a:prstGeom prst="wedgeEllipseCallout">
            <a:avLst>
              <a:gd name="adj1" fmla="val -58384"/>
              <a:gd name="adj2" fmla="val -58240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Подразде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Целевая статья в части кода НП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КВ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356-A29A-4735-AAAA-FE804EC45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4B8A-17DB-417E-AD3C-674213C59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4343400" y="372600"/>
            <a:ext cx="72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mbria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6"/>
          <p:cNvSpPr/>
          <p:nvPr/>
        </p:nvSpPr>
        <p:spPr>
          <a:xfrm>
            <a:off x="536400" y="1951200"/>
            <a:ext cx="1122840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536400" y="2055960"/>
            <a:ext cx="1122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графе 3 Отчета  0503738-Н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коды бюджетной классификации, содержащие в соответствующих разрядах коды разделов, подразделов, целевых статей, содержащих в 4 – 5 разрядах кода целевой статьи коды основных мероприятий целевых статей расходов на реализацию национальных проектов (программ), а также комплексного плана модернизации и расширения магистральной инфраструктуры (региональных проектов в составе национальных проектов), видов расходов классификации расходов бюджетов Российской Федерации, без формирования промежуточных итогов по группировочным кодам бюджетной классификации 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XX XX 000YY YYYYY XX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4466880" y="142704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четы  0503738-Н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812880" y="1546200"/>
            <a:ext cx="10080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имость отчетных форм для ФО, ГВБ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4616280" y="2266920"/>
            <a:ext cx="24735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Отчет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28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812880" y="2266920"/>
            <a:ext cx="24717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ество Отчет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17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4343400" y="312840"/>
            <a:ext cx="720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отчетности по национальным проек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Равно 19"/>
          <p:cNvSpPr/>
          <p:nvPr/>
        </p:nvSpPr>
        <p:spPr>
          <a:xfrm>
            <a:off x="3584520" y="2668680"/>
            <a:ext cx="844560" cy="565200"/>
          </a:xfrm>
          <a:custGeom>
            <a:avLst/>
            <a:gdLst/>
            <a:ahLst/>
            <a:rect l="l" t="t" r="r" b="b"/>
            <a:pathLst>
              <a:path w="844550" h="565150">
                <a:moveTo>
                  <a:pt x="111945" y="116421"/>
                </a:moveTo>
                <a:lnTo>
                  <a:pt x="732605" y="116421"/>
                </a:lnTo>
                <a:lnTo>
                  <a:pt x="732605" y="249344"/>
                </a:lnTo>
                <a:lnTo>
                  <a:pt x="111945" y="249344"/>
                </a:lnTo>
                <a:lnTo>
                  <a:pt x="111945" y="116421"/>
                </a:lnTo>
                <a:close/>
                <a:moveTo>
                  <a:pt x="111945" y="315806"/>
                </a:moveTo>
                <a:lnTo>
                  <a:pt x="732605" y="315806"/>
                </a:lnTo>
                <a:lnTo>
                  <a:pt x="732605" y="448729"/>
                </a:lnTo>
                <a:lnTo>
                  <a:pt x="111945" y="448729"/>
                </a:lnTo>
                <a:lnTo>
                  <a:pt x="111945" y="315806"/>
                </a:lnTo>
                <a:close/>
              </a:path>
            </a:pathLst>
          </a:custGeom>
          <a:solidFill>
            <a:srgbClr val="b5ceed"/>
          </a:solidFill>
          <a:ln w="28440">
            <a:solidFill>
              <a:srgbClr val="2185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7089840" y="226692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8364600" y="243540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ускается отклонение на отчеты (ф. 0503128-НП), содержащих только данные плановых пери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812880" y="4722840"/>
            <a:ext cx="24717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17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8720280" y="4722840"/>
            <a:ext cx="24732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8b4ff"/>
              </a:gs>
              <a:gs pos="100000">
                <a:srgbClr val="d0e1ff"/>
              </a:gs>
            </a:gsLst>
            <a:lin ang="16200000"/>
          </a:gradFill>
          <a:ln w="12600">
            <a:solidFill>
              <a:srgbClr val="4081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чет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0503128-Н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право 1"/>
          <p:cNvSpPr/>
          <p:nvPr/>
        </p:nvSpPr>
        <p:spPr>
          <a:xfrm>
            <a:off x="3762360" y="5078520"/>
            <a:ext cx="4602240" cy="655560"/>
          </a:xfrm>
          <a:prstGeom prst="rightArrow">
            <a:avLst>
              <a:gd name="adj1" fmla="val 50000"/>
              <a:gd name="adj2" fmla="val 50020"/>
            </a:avLst>
          </a:prstGeom>
          <a:noFill/>
          <a:ln w="2844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762360" y="4218120"/>
            <a:ext cx="460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личии Отчета (ф. 0503117-НП) должен быть представлен Отчет (ф. 0503128-НП) по аналогичному ОКТ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211D-3AC5-4D4B-9754-B621367AD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Зайцев Павел Борисович</cp:lastModifiedBy>
  <cp:lastPrinted>2020-01-21T17:37:01Z</cp:lastPrinted>
  <dcterms:modified xsi:type="dcterms:W3CDTF">2020-01-22T16:46:48Z</dcterms:modified>
  <cp:revision>1031</cp:revision>
  <dc:subject/>
  <dc:title>Презентация PowerPoint</dc:title>
</cp:coreProperties>
</file>